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B8EB-21E2-4B21-989A-7076D855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383-4A6D-4A5B-BAC7-C30AC7A1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4496-0CAA-464A-947F-4FA6073B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390-8BF6-4954-B9C9-D6935950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D61-3473-4F3A-9003-B9F27020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7185-7332-46FB-B80F-5BFB2BE5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F59-C8CD-44A9-9B01-1302F4EC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F19A-C314-4D41-A7C0-EF7AA39F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0D7-A90E-436C-B2F8-F12CEA39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BBE8-BA57-494F-B6BD-B1E11896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502-3D02-4586-8986-2FC302FB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0B7-78E1-424A-BED9-23581E51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5269-B32A-4814-A8FE-6DE9B68AABE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8C6BB342-E698-464B-9AFB-968EF29BC92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: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04840" y="1285920"/>
            <a:ext cx="8653320" cy="53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John 2.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αυτα γραφω ὑμι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ἱνα μη ἁμαρτη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am writing these things to you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o that you may no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i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Pet. 3.1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Χριστος ἁπαξ περι ἁματιων ἐπαθεν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ἱν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ὑμας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ροσαγαγ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ῳ θε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rist once for all suffered for sins …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 order to br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ou to G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Cor. 11.27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ς ἀν ἐσθι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ν ἀρτον ἠ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ιν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 ποτηριον του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υριος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oever ea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bread o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rink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cup of the Lord.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46200" y="3564000"/>
          <a:ext cx="7840440" cy="1508040"/>
        </p:xfrm>
        <a:graphic>
          <a:graphicData uri="http://schemas.openxmlformats.org/drawingml/2006/table">
            <a:tbl>
              <a:tblPr/>
              <a:tblGrid>
                <a:gridCol w="933480"/>
                <a:gridCol w="350640"/>
                <a:gridCol w="1081080"/>
                <a:gridCol w="3537000"/>
                <a:gridCol w="351000"/>
                <a:gridCol w="1587240"/>
              </a:tblGrid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ς ἀ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πο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που ἀ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τα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e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85"/>
          <p:cNvSpPr/>
          <p:nvPr/>
        </p:nvSpPr>
        <p:spPr>
          <a:xfrm>
            <a:off x="2019240" y="1508040"/>
            <a:ext cx="5105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3.1 Indefinite claus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6"/>
          <p:cNvSpPr/>
          <p:nvPr/>
        </p:nvSpPr>
        <p:spPr>
          <a:xfrm>
            <a:off x="1333440" y="2398680"/>
            <a:ext cx="6477120" cy="581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+ Subjunctive = indefinit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373FE239-D946-4AD0-A9D0-D8B8A600D8B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F6FDE446-AF07-4252-99BC-E47971D37B9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0360" y="1357200"/>
            <a:ext cx="926784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3.35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ὁς ἀν ποιησ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ο θελημα του θεου ..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oever do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will of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hew 6.6: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υ δε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ὁταν προσευχ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Bu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ever you pra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v. 14.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οὑτοι οἱ ἀκολουθουντες τῳ ἀρνιῳ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ὁπου ἀ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ὑπαγῃ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These ones follow the lamb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rever he go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A08CF27A-14E6-401D-A3FD-BF48103CF02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14200" y="1571760"/>
            <a:ext cx="86868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</a:t>
            </a:r>
            <a:r>
              <a:rPr b="0" lang="en-GB" sz="28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α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used in plac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eek uses the indefinite strictly, even when there is no ‘ever’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 6.6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‘ὁταν προσευχῃ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ans 'whenever you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ay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6.10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‘μενετε ἑως ἀν ἐξελθητε’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ans 'remain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til ever you leav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1866960" y="1176480"/>
            <a:ext cx="5410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3.2 Purpose Claus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52480" y="1833480"/>
            <a:ext cx="5639040" cy="6274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</a:t>
            </a:r>
            <a:r>
              <a:rPr b="1" lang="el-GR" sz="3500" spc="-1" strike="noStrike">
                <a:solidFill>
                  <a:srgbClr val="ffffff"/>
                </a:solidFill>
                <a:latin typeface="Gentium"/>
              </a:rPr>
              <a:t>ἱνα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+ Subjunctive =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2920" y="2666880"/>
            <a:ext cx="8858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John 8.59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ἠραν οὐν λιθους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ἱνα βαλωσι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ἐπ’ αὐτο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- They took stone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n order that they might throw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(them) a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i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att 7.1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μη κρινετε,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ἱνα μη κριθητε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- Do not judge,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n order that you might not be judg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Phil. 1.9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και τουτο προσευχομαι,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ἱν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ἡ ἀγαπη ὑμ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...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περισσευ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And I pray thi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ha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your lov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ay overflow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2E1BA637-2B1E-4CA7-9803-7BFE03AA8D5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C5DF9843-E59A-48D9-9125-22C2F04AEC9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7040" y="1631880"/>
          <a:ext cx="8699760" cy="3969000"/>
        </p:xfrm>
        <a:graphic>
          <a:graphicData uri="http://schemas.openxmlformats.org/drawingml/2006/table">
            <a:tbl>
              <a:tblPr/>
              <a:tblGrid>
                <a:gridCol w="2217600"/>
                <a:gridCol w="216000"/>
                <a:gridCol w="2426040"/>
                <a:gridCol w="1797120"/>
                <a:gridCol w="191520"/>
                <a:gridCol w="1851480"/>
              </a:tblGrid>
              <a:tr h="505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 of these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ραν οὐν λιθου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ἱνα βαλω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’ αὐτ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24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ld be translated by any of the following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fore they took sto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order  that they might thr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them) at him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thr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order to thr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 that they might thr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1090A477-E486-48DC-82B7-B1F1DC0B799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211400" y="3500280"/>
            <a:ext cx="6691320" cy="21740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have looked at the two most common uses of the Subjunctive. Notice that each has a 'flag word'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(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 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ν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(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πω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which alerts you to the fact that a Subjunctive is on the w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76200" y="1428840"/>
            <a:ext cx="883908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πω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+ Subjunctive is a more unusual alternative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ἱν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+ Subjunc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F0DA74C6-81C4-4301-8B4F-2D777FC1945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57200" y="1104840"/>
            <a:ext cx="8229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3.3 Exhortations (Hortatory Subjunctive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1486080" y="1797120"/>
            <a:ext cx="6172200" cy="581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lural Subjunctive = 'let us'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-768240" y="2544840"/>
            <a:ext cx="9758160" cy="37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Mark 4.35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διελθωμε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εἰς το περα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et us go to the other s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Rom. 14.19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ρα οὐν τα της εἰρηνης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διωκωμε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o therefor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et us pursu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the things of pe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eb.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10.22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προσερχωμεθ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 μετα ἀληθινης καρδιας ἐν πληροφοριᾳ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πιστεω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–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et us approa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with a true heart in full assurance of fai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C10B30E1-1789-454C-AC1B-2EA89102D8C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1176480"/>
            <a:ext cx="853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3.4 Deliberation (Deliberative Subjunctive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09480" y="1816200"/>
            <a:ext cx="7925040" cy="581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person Subjunctive = delibe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14200" y="2473200"/>
            <a:ext cx="855828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3.10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ί οὐ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ποιησωμε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What the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hould we d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b. 11.3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τί ἐτ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λεγ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 – And what mor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hould I sa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m. 6.1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ί οὐ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ἁμαρτησω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, ὁτι οὐκ ἐσμεν ὑπο νομον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λλα ὑπο χαρ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then?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hould we si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because we are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 under law but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grac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0D95E94F-36D5-4594-A47A-65ACD5C444F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76520" y="1219320"/>
            <a:ext cx="5790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3.5 Prohibitio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38080" y="2133720"/>
            <a:ext cx="7467840" cy="10688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orist Subjunctive replaces Aorist Imperative in prohib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58920" y="3786120"/>
          <a:ext cx="6622920" cy="1920960"/>
        </p:xfrm>
        <a:graphic>
          <a:graphicData uri="http://schemas.openxmlformats.org/drawingml/2006/table">
            <a:tbl>
              <a:tblPr/>
              <a:tblGrid>
                <a:gridCol w="1392120"/>
                <a:gridCol w="1471680"/>
                <a:gridCol w="3759120"/>
              </a:tblGrid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Imperative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aul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ctive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244440" y="1263600"/>
            <a:ext cx="84582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11.4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η εἰσενεγκῃ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ἡμας εἰς πειρασμ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o not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r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 to t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m. 10.6: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η εἰπῃ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ν τῃ καρδιᾳ σου∙ τίς ἀναβησεται εἰς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ν οὐραν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o not s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your heart, 'Who will go up to heaven?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10.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υτους τους δωδεκα ἀπεστειλεν ὁ Ἰησους ...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ων∙ Εἰς ὁδον ἐθνω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η ἀπελθητε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εἰς πολι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αμαριτω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η εἰσελθη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sent out these twelve … saying '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o not go ou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to the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ad of the Gentiles,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o not ente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 city of the Samarians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CCAFDCF2-3FB1-4FF1-9E30-003A0A0511C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51B6C3B4-F3F6-4654-B928-30A1F4878A5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: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57120" y="1657440"/>
            <a:ext cx="840096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6.10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ὁπου ἐαν εἰσελθητ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εἰς οἰκιαν, ἐκει μενετ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rever you ent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 house, stay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itus 3.12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ὁταν πεμψω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Ἀρτεμαν προς σε ἠ Τυχικον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πουδασον ἐλθειν προς με εἰς Νικοπολι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(ever) I se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temas to you, or Tychicus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k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very effort to come to me at Nicopol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.3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και λεγει αὐτοις∙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Ἀγωμ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ἀλλαχ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he said to them, '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Let us g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lsewhere 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21ED1A8E-3134-4AD1-ADBD-EB2DA7DF95B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876240" y="1119240"/>
            <a:ext cx="73915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3.6 Emphatic Negative Futur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562040" y="1749600"/>
            <a:ext cx="6019920" cy="1114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ffffff"/>
                </a:solidFill>
                <a:latin typeface="Gentium"/>
              </a:rPr>
              <a:t>οὐ</a:t>
            </a:r>
            <a:r>
              <a:rPr b="1" lang="en-GB" sz="3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1" lang="el-GR" sz="3500" spc="-1" strike="noStrike">
                <a:solidFill>
                  <a:srgbClr val="ffffff"/>
                </a:solidFill>
                <a:latin typeface="Gentium"/>
              </a:rPr>
              <a:t>μη</a:t>
            </a:r>
            <a:r>
              <a:rPr b="1" lang="en-GB" sz="3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+ Aorist Subjunctive = emphatic negative fu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0" y="2871720"/>
            <a:ext cx="9144000" cy="37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rk 13.30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μην λεγω ὑμιν ὁτ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οὐ μη παρελθῃ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ἡ γενεα αὑτη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Truly I tell to you that this generatio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ill (definitely) not pass aw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ohn 6.3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ον ἐρχομενον προς ἐμε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οὐ μη ἐκβαλω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 ἐξ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one who comes to m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 will (definitely) not drive aw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uts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26.3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ει αὐτῳ ὁ Πετρος∙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...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οὑ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μη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</a:rPr>
              <a:t>ἀπαρνησομ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ter said to him, '…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 will never den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you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1A240709-DB88-4B2A-88C1-7864D00F7A7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: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61800" y="1428840"/>
            <a:ext cx="849636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6.24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ξελθουσα εἰπεν τῃ μητρι αὐτης∙ Τί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αἰτησωμ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she had gone out, she said to her mother,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'Wha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hould I ask (for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'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b. 10.35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μη ἀποβαλητ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οὐν την παρρησιαν ὑμ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o not thro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way you boldnes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v. 18.2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βληθησεται Βαβυλων ἡ μεγαλη πολις 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οὐ μη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εὑρεθῃ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ἐτ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bylon the great city will be thrown down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il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ever be fou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g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490A36F6-1FB5-486C-B265-F6A3F9A1142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THE IDEA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14240" y="211284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ubjunctive is the fifth and final Mood which occurs in all three voic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tive, middle, or pas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DCCB514C-E3F6-4112-BA40-C838903F719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200" y="5400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THE FORMATION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401840" y="2327400"/>
            <a:ext cx="6324480" cy="1810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move any au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place the Indicative endings with the Subjunctive 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058CBE48-1359-450A-B8E0-BB16A8EBA84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1200" y="5400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THE FORMATION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12840" y="1455840"/>
            <a:ext cx="8501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2.1 Present Active, Aorist Active, Aorist Pas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85840" y="2714760"/>
          <a:ext cx="8580240" cy="1828800"/>
        </p:xfrm>
        <a:graphic>
          <a:graphicData uri="http://schemas.openxmlformats.org/drawingml/2006/table">
            <a:tbl>
              <a:tblPr/>
              <a:tblGrid>
                <a:gridCol w="2428920"/>
                <a:gridCol w="6151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A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, λυῃς, λυῃ, λυωμεν, λυητε, λυω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A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ω, λυσῃς, λυσῃ, λυσωμεν, λυσητε, λυσω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Ac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ω, βαλῃς, βαλῃ, βαλωμεν, βαλητε, βαλω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ω, λυθῃς, λυθῃ, λυθωμεν, λυθητε, λυθω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3"/>
          <p:cNvSpPr/>
          <p:nvPr/>
        </p:nvSpPr>
        <p:spPr>
          <a:xfrm>
            <a:off x="0" y="1461960"/>
            <a:ext cx="9061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7.2.2 Present Middle, Present Passive, Aorist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3160" y="2389320"/>
          <a:ext cx="8785080" cy="3047760"/>
        </p:xfrm>
        <a:graphic>
          <a:graphicData uri="http://schemas.openxmlformats.org/drawingml/2006/table">
            <a:tbl>
              <a:tblPr/>
              <a:tblGrid>
                <a:gridCol w="1404720"/>
                <a:gridCol w="73803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ωμαι, ῥυῃ, ῥυηται, ῥυωμεθα, ῥυησθε, ῥυωντα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μαι, λυῃ, λυηται, λυωμεθα, λυησθε, λυων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σωμαι, ῥυσῃ, ῥυσηται, ῥυσωμεθα, ῥυσησθε, ῥυσων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ενωμαι, γενῃ, γενηται, γενωμεθα, γενησθε, γενωντ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AE1A9D42-2CEA-4759-BBD1-0A8797531A7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41200" y="5400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THE FORMATION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2B625EEA-D9D4-4A70-8104-6612EC48914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41200" y="5400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2 THE FORMATION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7"/>
          <p:cNvSpPr/>
          <p:nvPr/>
        </p:nvSpPr>
        <p:spPr>
          <a:xfrm>
            <a:off x="303120" y="1614600"/>
            <a:ext cx="8501040" cy="39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verbs are easy in the Subjunctive – the endings always begin with a long vowel, so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ill always be absorbe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us, the Present Active Subjunctiv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ε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φιλῃς, φιλῃ, φιλωμεν, φιλητε, φιλωσι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μι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s the same endings – its Present Subjunctive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ᾐ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ᾐ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ὠμ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ἠ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ὠσ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409760" y="2604960"/>
            <a:ext cx="6324480" cy="13230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sent Subjunctive –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orist Subjunctive – Defau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7:Grammar </a:t>
            </a:r>
            <a:fld id="{DEAC18A7-FEC6-4197-93CD-6EEE3437682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241200" y="2746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3 THE USES OF THE SUBJUNCT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3:35:06Z</dcterms:created>
  <dc:creator>Sarah</dc:creator>
  <dc:description/>
  <dc:language>en-US</dc:language>
  <cp:lastModifiedBy>Sarah</cp:lastModifiedBy>
  <dcterms:modified xsi:type="dcterms:W3CDTF">2009-03-18T15:47:25Z</dcterms:modified>
  <cp:revision>48</cp:revision>
  <dc:subject/>
  <dc:title>Slide 1</dc:title>
</cp:coreProperties>
</file>